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B85-30A4-4D81-9B12-65707FB7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67E-F4F6-42BD-A1E5-1D7FEE68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825-5607-41BF-8334-B6F03CF1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A9B-4C0D-454F-A0C6-44B7EE4A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72F-3E39-480D-9678-E03F5AE2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1B81-528B-4FC0-839D-0E7022ED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5162-6752-47F6-86A9-9C915578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A3D6-4D15-48E2-B2F7-E27B06D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6CB5-188E-453E-8113-6DF5D49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257B-4D26-468C-BFA2-D90C0308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27FA-0C68-4C54-B242-8C073BA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EB1-9C0C-42BD-B986-98E3E5E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318-452A-4769-BCEF-0C88D3E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417A-DCBA-422D-858D-17332E3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7BD4-1531-4251-AEB5-FE760452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30FA-A7E4-4958-AAEA-CB3561FA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A65A-BF1E-4A5C-ABE3-A7E6821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970-1C91-4A48-B6B5-EE70D50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015-9AE0-4A0C-9CFF-6A159B92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E49-8687-448C-A09B-9D78263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E27-88E4-42B6-BAAA-1C72357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1F7-EC2D-4C84-8D16-14BEFFE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338-266D-42B6-8A27-60FD5A4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6B1-AC00-4A93-8EFC-A86CFCD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49D3-CAA7-4388-9327-7B7F9E8FAC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E80-AD3E-4C32-840F-F3AB90BC7D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6788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66"/>
                </a:solidFill>
                <a:latin typeface="Verdana"/>
              </a:rPr>
              <a:t>El contrato de trabajo</a:t>
            </a:r>
            <a:endParaRPr b="0" lang="en-US" sz="8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5257440"/>
            <a:ext cx="4437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dalidades de contrat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1905120"/>
          <a:ext cx="8184960" cy="3809520"/>
        </p:xfrm>
        <a:graphic>
          <a:graphicData uri="http://schemas.openxmlformats.org/drawingml/2006/table">
            <a:tbl>
              <a:tblPr/>
              <a:tblGrid>
                <a:gridCol w="2728080"/>
                <a:gridCol w="2728440"/>
                <a:gridCol w="272844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EFIN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A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efinido Ord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mento Contratación Indefin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ra o Servi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 de la p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la Fo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ÍNDI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epto de Contra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acterísticas del contra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idos Esenciales del contra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íodo de Prueb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alidades de Contra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63000"/>
            <a:ext cx="816300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Qué es el Contrato de trabajo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 (Concepto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2539800"/>
            <a:ext cx="811044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uerdo por el que el/la trabajador/a se compromete voluntariamente a prestar servicios por cuenta y dentro del ámbito de organización y dirección de otra persona física o jurídica mediante una retribu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aracterísticas del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rato de trabaj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2187720"/>
            <a:ext cx="81104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EN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TRIB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ÁCTER PERS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LUNTARI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787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rebuchet MS"/>
              </a:rPr>
              <a:t>Contenido esencial del contrato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identidad de las par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fecha del comienzo de la relación laboral y, en caso de ser temporal, la duración previsible de la mis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domicilio social de la empre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categoría o el grupo profesional del pu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cuantía del salario base inicial y de los complementos salariales, así como la peridiocidad de su pa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duración y distribución de la jornada ordinaria de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duración de las vac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plazos de preaviso que, en su caso, estén obligados a respetar el empresario y el trabajador en el supuesto de extinción del contra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convenio colectivo aplicable a la relación labo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IODO DE PRUEBA: Concept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Es el tiempo concertado por el trabajador y el empresario durante el cual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ualquiera de ellos puede dar por finalizada la relación laboral sin preavi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in necesidad de alegar ninguna causa y sin derecho a indemn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iene como finalidad, en el caso del empresario, comprobar si el trabajador está o no capacitado para desarrollar el trabajo para el que ha sido contratado, y en el caso del trabajador, permite conocer las condiciones en las que se va a desarrollar su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IODO DE PRUEBA: Dur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duración máxima del periodo de prueba depende del convenio colectivo aplic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al sector o empresa concreta y de la categoría profesional del trabajador/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a los/as trabajadores/as contratados por su calidad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técnicos o titulad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e establecerá un plazo de prueba máximo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6 me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a 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st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de los/as trabajadores/a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 me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En las empresas de menos de 25 trabajadores, el periodo de prueba no podrá exceder de 3 meses para los que no sean técnicos o titul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71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20400" cy="632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24:07Z</dcterms:created>
  <dc:creator>Biblioteca</dc:creator>
  <dc:description/>
  <dc:language>en-US</dc:language>
  <cp:lastModifiedBy>I.E.S. VISTA ALEGRE</cp:lastModifiedBy>
  <dcterms:modified xsi:type="dcterms:W3CDTF">2007-10-10T10:58:15Z</dcterms:modified>
  <cp:revision>9</cp:revision>
  <dc:subject/>
  <dc:title>El contrato de trabajo</dc:title>
</cp:coreProperties>
</file>